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99A-546C-4E78-B9BC-F640956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A1F-3315-40F7-9A91-BBBF4F6D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B8C-7969-42EC-8DFB-F40EC859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2DF-2B5F-4C06-88D9-A7823BEA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16D-3E86-41D7-8F9E-265CC45C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DC4-C5C5-4386-BD76-DD951379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D70-D396-44DB-AC93-3EC7478C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FF4-47DB-4C9A-A8F3-69B9C746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5E5-A045-4F76-82EB-8329103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CD4-A6BA-4BAD-BD2B-A5E1C19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984-0C54-4A1D-A1F2-C59D1CF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446-CA14-423C-A631-4D39AA9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FA3C-3A3D-47AC-B96B-433CC144301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rial"/>
              </a:rPr>
              <a:t>A INTERNET:</a:t>
            </a:r>
            <a:br>
              <a:rPr sz="4800"/>
            </a:br>
            <a:r>
              <a:rPr b="1" lang="pt-BR" sz="4800" spc="-1" strike="noStrike">
                <a:solidFill>
                  <a:srgbClr val="006600"/>
                </a:solidFill>
                <a:latin typeface="Arial"/>
              </a:rPr>
              <a:t>“COMUNICAÇÃO ONLINE PROFESSOR/ALUN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7120" y="3071880"/>
            <a:ext cx="85010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Profº. STE Emerson 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ernando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 Alves do Co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Matu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E.E. Senador Filinto Mu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Ivinhema -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0040" y="500076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oto 229"/>
          <p:cNvPicPr/>
          <p:nvPr/>
        </p:nvPicPr>
        <p:blipFill>
          <a:blip r:embed="rId1"/>
          <a:stretch/>
        </p:blipFill>
        <p:spPr>
          <a:xfrm>
            <a:off x="0" y="0"/>
            <a:ext cx="5508720" cy="413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oto 235"/>
          <p:cNvPicPr/>
          <p:nvPr/>
        </p:nvPicPr>
        <p:blipFill>
          <a:blip r:embed="rId2"/>
          <a:stretch/>
        </p:blipFill>
        <p:spPr>
          <a:xfrm>
            <a:off x="3754440" y="2816280"/>
            <a:ext cx="5389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Público Al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5013360"/>
            <a:ext cx="820908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2º Ano “A” – Ensino Mé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673200" y="1685880"/>
            <a:ext cx="8229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6600"/>
                </a:solidFill>
                <a:latin typeface="Arial"/>
              </a:rPr>
              <a:t>Professor Aguinaldo Costa Nunes da disciplina de Histór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Ge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Oferecer capacitação ao professor Aguinaldo Costa Nunes quanto a montagem e publicação de site. Mostrar a importância de se ter um site para promover maior interação com dos alunos com os conteúdos estudados possibilitando também fazer a publicação dos trabalhos desenvolvidos por eles no decorrer do ano letivo neste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Apresentar ao professor o potencial do uso de um micro computador e o uso específico do aplicativo Microsoft Office Publisher onde será desenvolvido todo o trabalho da criação deste si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Criação de links onde estes se relacionarão aos assuntos diversos desenvolvidos pel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Tecnologias Utiliz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Editor AZ Paint Pro, Icon Editor &amp; Animated GIF Editor8.4.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Editor Imagem (Corel Photo Pai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Microsoft Publis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ileZilla-3.0.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Metodologia – 1ª Et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apacitar o professor a utilizar os recursos disponíveis no Microsoft Office Publish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riação do site pelo professor e alimentação com os conteúdos curriculares e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Metodologia – 2ª Et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Criação de uma conta no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hotmail específica a este trabalho para que os alunos possam se comunicar com o profess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Apresentação do site aos alunos e acesso aos conteúdos e atv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Desenvolvimento das atividades propo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Envio das atividades realizadas ao professor via e-ma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Publicação das atividades dos alunos pelo professor em seu por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http://profaguinaldo.hdfree.com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ink"/>
          <p:cNvPicPr/>
          <p:nvPr/>
        </p:nvPicPr>
        <p:blipFill>
          <a:blip r:embed="rId1"/>
          <a:stretch/>
        </p:blipFill>
        <p:spPr>
          <a:xfrm>
            <a:off x="611280" y="2421000"/>
            <a:ext cx="8137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oto 232"/>
          <p:cNvPicPr/>
          <p:nvPr/>
        </p:nvPicPr>
        <p:blipFill>
          <a:blip r:embed="rId1"/>
          <a:stretch/>
        </p:blipFill>
        <p:spPr>
          <a:xfrm>
            <a:off x="0" y="0"/>
            <a:ext cx="5292720" cy="396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oto 233"/>
          <p:cNvPicPr/>
          <p:nvPr/>
        </p:nvPicPr>
        <p:blipFill>
          <a:blip r:embed="rId2"/>
          <a:stretch/>
        </p:blipFill>
        <p:spPr>
          <a:xfrm>
            <a:off x="3708360" y="2781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oto 234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oto 236"/>
          <p:cNvPicPr/>
          <p:nvPr/>
        </p:nvPicPr>
        <p:blipFill>
          <a:blip r:embed="rId2"/>
          <a:stretch/>
        </p:blipFill>
        <p:spPr>
          <a:xfrm>
            <a:off x="0" y="2835360"/>
            <a:ext cx="536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4:41:29Z</dcterms:created>
  <dc:creator>Escola</dc:creator>
  <dc:description/>
  <dc:language>en-US</dc:language>
  <cp:lastModifiedBy>MicroCarla</cp:lastModifiedBy>
  <dcterms:modified xsi:type="dcterms:W3CDTF">2009-08-11T13:30:25Z</dcterms:modified>
  <cp:revision>43</cp:revision>
  <dc:subject/>
  <dc:title>Internet – Recurso indispensável</dc:title>
</cp:coreProperties>
</file>